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FDF-F4D3-45F2-86A1-D31EA0A2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3D65-C488-4CEF-BF41-D11E4DDB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4C46-E0A3-46D2-B6A9-F91630AE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A22D-4A98-40FB-884A-212B4ACBF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C02D-E4B8-4AD5-8B86-298EBF2B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FE23-94AE-4B0B-BBC5-59E9BF864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907E-54E0-4D42-997A-0CED8A89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968C-DAFF-47C9-B452-7A3B8D639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5B5-85E2-4450-B054-2ABEFBE5F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F2D3-D557-4CE7-B58D-5CB31B75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8DC6-893C-488E-B30F-3203A278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A938-A6AF-4A07-9328-15E759DB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111D-3A6F-4399-A053-87EA6A576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u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76320" y="1676520"/>
            <a:ext cx="9067680" cy="3581280"/>
            <a:chOff x="76320" y="1676520"/>
            <a:chExt cx="9067680" cy="3581280"/>
          </a:xfrm>
        </p:grpSpPr>
        <p:pic>
          <p:nvPicPr>
            <p:cNvPr id="44" name="" descr=""/>
            <p:cNvPicPr/>
            <p:nvPr/>
          </p:nvPicPr>
          <p:blipFill>
            <a:blip r:embed="rId1"/>
            <a:srcRect l="18999" t="24179" r="23000" b="24179"/>
            <a:stretch/>
          </p:blipFill>
          <p:spPr>
            <a:xfrm>
              <a:off x="76320" y="1676520"/>
              <a:ext cx="498456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rcRect l="16002" t="24179" r="35504" b="24179"/>
            <a:stretch/>
          </p:blipFill>
          <p:spPr>
            <a:xfrm>
              <a:off x="4975200" y="1676520"/>
              <a:ext cx="4168800" cy="3581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601200" cy="7201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00" y="0"/>
            <a:ext cx="6116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, featureless, grey, like high f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904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5305320"/>
            <a:ext cx="944892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ocu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, grey, globular mases in lines, groups, or waves, heavy rolls, irregular overcast patter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ud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rtically develop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-2971800" y="1523880"/>
            <a:ext cx="10515240" cy="4952880"/>
            <a:chOff x="-2971800" y="1523880"/>
            <a:chExt cx="10515240" cy="4952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18999" t="24179" r="23000" b="24179"/>
            <a:stretch/>
          </p:blipFill>
          <p:spPr>
            <a:xfrm>
              <a:off x="-2971800" y="1523880"/>
              <a:ext cx="5780160" cy="495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rcRect l="16002" t="24179" r="35504" b="24179"/>
            <a:stretch/>
          </p:blipFill>
          <p:spPr>
            <a:xfrm>
              <a:off x="2709000" y="1523880"/>
              <a:ext cx="4834440" cy="495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2819520" y="2209680"/>
            <a:ext cx="4952880" cy="358164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-457200" y="0"/>
            <a:ext cx="97534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ly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ly outlined, puffy, billowy, flat based, swelling tops, fair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1295280"/>
            <a:ext cx="2210040" cy="2210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ly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ply outlined, puffy, billowy, flat based, swelling tops, fair wea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591920" cy="71992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352680" y="5486400"/>
            <a:ext cx="6477120" cy="1648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mulonim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ly develo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e, heavy, dark massive thunderst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 showers, explosive top, great vertical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rus topped plume blown into anvil shaped h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7238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200400" y="5867280"/>
            <a:ext cx="647712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mulonim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rtically develop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nse, heavy, dark massive thunderstor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rd showers, explosive top, great vertical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rrus topped plume blown into anvil shaped he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296280" cy="6972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9520" y="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,000 – 43,000 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120" y="0"/>
            <a:ext cx="86230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r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spy, feathery, hairlike, delicate fibers, streaks or pl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533520" y="-39600"/>
            <a:ext cx="10287000" cy="6897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 flipV="1">
            <a:off x="1143000" y="533160"/>
            <a:ext cx="2209680" cy="19047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70680" y="0"/>
            <a:ext cx="84708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rocu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s as tufts, in lines or groups, sometimes in rip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7640" t="31116" r="35771" b="40000"/>
          <a:stretch/>
        </p:blipFill>
        <p:spPr>
          <a:xfrm>
            <a:off x="-1600200" y="1981080"/>
            <a:ext cx="5943600" cy="34354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0"/>
            <a:ext cx="63705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rost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il of fused sheets of ice crystals, mil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n and moon ha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rcRect l="0" t="0" r="0" b="12909"/>
          <a:stretch/>
        </p:blipFill>
        <p:spPr>
          <a:xfrm>
            <a:off x="3048120" y="2743200"/>
            <a:ext cx="6095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ud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-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76320" y="1676520"/>
            <a:ext cx="10515240" cy="4952520"/>
            <a:chOff x="76320" y="1676520"/>
            <a:chExt cx="10515240" cy="49525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rcRect l="18999" t="24179" r="23000" b="24179"/>
            <a:stretch/>
          </p:blipFill>
          <p:spPr>
            <a:xfrm>
              <a:off x="76320" y="1676520"/>
              <a:ext cx="5780160" cy="49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rcRect l="16002" t="24179" r="35504" b="24179"/>
            <a:stretch/>
          </p:blipFill>
          <p:spPr>
            <a:xfrm>
              <a:off x="5757120" y="1676520"/>
              <a:ext cx="4834440" cy="49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990720" y="3048120"/>
            <a:ext cx="6019560" cy="152388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533520" y="-39600"/>
            <a:ext cx="10287000" cy="6897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 flipH="1" flipV="1">
            <a:off x="3352680" y="533160"/>
            <a:ext cx="1828800" cy="32763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69960" y="0"/>
            <a:ext cx="3895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ocumu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ches of cotton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962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81480" y="0"/>
            <a:ext cx="42674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,500 – 20,000 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40" y="0"/>
            <a:ext cx="902556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ost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ddl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to thick with no halos, sun’s outline just visible, gre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oud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w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320" y="1676520"/>
            <a:ext cx="10515240" cy="4952520"/>
            <a:chOff x="76320" y="1676520"/>
            <a:chExt cx="10515240" cy="4952520"/>
          </a:xfrm>
        </p:grpSpPr>
        <p:pic>
          <p:nvPicPr>
            <p:cNvPr id="77" name="" descr=""/>
            <p:cNvPicPr/>
            <p:nvPr/>
          </p:nvPicPr>
          <p:blipFill>
            <a:blip r:embed="rId1"/>
            <a:srcRect l="18999" t="24179" r="23000" b="24179"/>
            <a:stretch/>
          </p:blipFill>
          <p:spPr>
            <a:xfrm>
              <a:off x="76320" y="1676520"/>
              <a:ext cx="5780160" cy="49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2"/>
            <a:srcRect l="16002" t="24179" r="35504" b="24179"/>
            <a:stretch/>
          </p:blipFill>
          <p:spPr>
            <a:xfrm>
              <a:off x="5757120" y="1676520"/>
              <a:ext cx="4834440" cy="495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" name=""/>
          <p:cNvSpPr/>
          <p:nvPr/>
        </p:nvSpPr>
        <p:spPr>
          <a:xfrm>
            <a:off x="914400" y="4419720"/>
            <a:ext cx="6858000" cy="1523880"/>
          </a:xfrm>
          <a:prstGeom prst="rect">
            <a:avLst/>
          </a:prstGeom>
          <a:noFill/>
          <a:ln w="507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422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400" y="0"/>
            <a:ext cx="6094800" cy="825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mbostr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y dark low clouds with drizzling 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2T15:15:07Z</dcterms:created>
  <dc:creator>Lensyl Urbano </dc:creator>
  <dc:description/>
  <dc:language>en-US</dc:language>
  <cp:lastModifiedBy>Cumberland County Schools</cp:lastModifiedBy>
  <dcterms:modified xsi:type="dcterms:W3CDTF">2010-10-11T18:02:11Z</dcterms:modified>
  <cp:revision>1</cp:revision>
  <dc:subject/>
  <dc:title>Cloud Types</dc:title>
</cp:coreProperties>
</file>